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A75-D4A9-4F67-8341-F45FDA51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A5C-B6B7-4B39-916C-9914E30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313-4AA9-491E-9779-55963831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7F2-8AF9-4FBA-8B85-7CDB8880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9800" y="189000"/>
            <a:ext cx="891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A0C-DB12-49E0-9F9C-752D1017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913-56E3-485C-84F4-5153E920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D60-5DBA-49F6-96D5-C1DBA6F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337-3623-4E85-ACE3-A6D5ABE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9800" y="189000"/>
            <a:ext cx="891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CF9-A0DA-45F8-A484-05FC4B4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C77-B77B-4D70-8DF8-F55D4D1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4C2-AE7F-488F-BB8E-D05D750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DFD-0921-4A95-BF09-2F078D9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980-E839-4F31-9722-DF653C11FF48}" type="datetime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350-63AC-4262-A8DC-140B5CB28732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6040" y="326880"/>
            <a:ext cx="9404640" cy="671760"/>
          </a:xfrm>
          <a:custGeom>
            <a:avLst/>
            <a:gdLst/>
            <a:ahLst/>
            <a:rect l="l" t="t" r="r" b="b"/>
            <a:pathLst>
              <a:path w="5432" h="423">
                <a:moveTo>
                  <a:pt x="2" y="422"/>
                </a:moveTo>
                <a:cubicBezTo>
                  <a:pt x="1756" y="422"/>
                  <a:pt x="2713" y="423"/>
                  <a:pt x="5428" y="422"/>
                </a:cubicBezTo>
                <a:cubicBezTo>
                  <a:pt x="5426" y="362"/>
                  <a:pt x="5432" y="415"/>
                  <a:pt x="5426" y="317"/>
                </a:cubicBezTo>
                <a:cubicBezTo>
                  <a:pt x="4519" y="319"/>
                  <a:pt x="4559" y="317"/>
                  <a:pt x="4514" y="317"/>
                </a:cubicBezTo>
                <a:cubicBezTo>
                  <a:pt x="4462" y="317"/>
                  <a:pt x="4466" y="285"/>
                  <a:pt x="4466" y="263"/>
                </a:cubicBezTo>
                <a:cubicBezTo>
                  <a:pt x="4466" y="224"/>
                  <a:pt x="4468" y="111"/>
                  <a:pt x="4466" y="52"/>
                </a:cubicBezTo>
                <a:cubicBezTo>
                  <a:pt x="4467" y="7"/>
                  <a:pt x="4451" y="2"/>
                  <a:pt x="4418" y="0"/>
                </a:cubicBezTo>
                <a:cubicBezTo>
                  <a:pt x="4046" y="2"/>
                  <a:pt x="628" y="2"/>
                  <a:pt x="50" y="0"/>
                </a:cubicBezTo>
                <a:cubicBezTo>
                  <a:pt x="14" y="0"/>
                  <a:pt x="4" y="35"/>
                  <a:pt x="2" y="53"/>
                </a:cubicBezTo>
                <a:cubicBezTo>
                  <a:pt x="0" y="70"/>
                  <a:pt x="2" y="345"/>
                  <a:pt x="2" y="422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c47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94680" y="334800"/>
            <a:ext cx="1300320" cy="416160"/>
            <a:chOff x="8194680" y="334800"/>
            <a:chExt cx="1300320" cy="416160"/>
          </a:xfrm>
        </p:grpSpPr>
        <p:sp>
          <p:nvSpPr>
            <p:cNvPr id="6" name=""/>
            <p:cNvSpPr/>
            <p:nvPr/>
          </p:nvSpPr>
          <p:spPr>
            <a:xfrm>
              <a:off x="8194680" y="334800"/>
              <a:ext cx="317520" cy="416160"/>
            </a:xfrm>
            <a:custGeom>
              <a:avLst/>
              <a:gdLst/>
              <a:ahLst/>
              <a:rect l="l" t="t" r="r" b="b"/>
              <a:pathLst>
                <a:path w="602" h="788">
                  <a:moveTo>
                    <a:pt x="602" y="86"/>
                  </a:moveTo>
                  <a:lnTo>
                    <a:pt x="600" y="65"/>
                  </a:lnTo>
                  <a:lnTo>
                    <a:pt x="591" y="45"/>
                  </a:lnTo>
                  <a:lnTo>
                    <a:pt x="577" y="25"/>
                  </a:lnTo>
                  <a:lnTo>
                    <a:pt x="557" y="11"/>
                  </a:lnTo>
                  <a:lnTo>
                    <a:pt x="537" y="2"/>
                  </a:lnTo>
                  <a:lnTo>
                    <a:pt x="516" y="0"/>
                  </a:lnTo>
                  <a:lnTo>
                    <a:pt x="79" y="0"/>
                  </a:lnTo>
                  <a:lnTo>
                    <a:pt x="54" y="7"/>
                  </a:lnTo>
                  <a:lnTo>
                    <a:pt x="32" y="22"/>
                  </a:lnTo>
                  <a:lnTo>
                    <a:pt x="15" y="40"/>
                  </a:lnTo>
                  <a:lnTo>
                    <a:pt x="5" y="63"/>
                  </a:lnTo>
                  <a:lnTo>
                    <a:pt x="0" y="88"/>
                  </a:lnTo>
                  <a:lnTo>
                    <a:pt x="5" y="113"/>
                  </a:lnTo>
                  <a:lnTo>
                    <a:pt x="15" y="135"/>
                  </a:lnTo>
                  <a:lnTo>
                    <a:pt x="32" y="155"/>
                  </a:lnTo>
                  <a:lnTo>
                    <a:pt x="54" y="167"/>
                  </a:lnTo>
                  <a:lnTo>
                    <a:pt x="79" y="173"/>
                  </a:lnTo>
                  <a:lnTo>
                    <a:pt x="428" y="173"/>
                  </a:lnTo>
                  <a:lnTo>
                    <a:pt x="428" y="700"/>
                  </a:lnTo>
                  <a:lnTo>
                    <a:pt x="431" y="725"/>
                  </a:lnTo>
                  <a:lnTo>
                    <a:pt x="440" y="748"/>
                  </a:lnTo>
                  <a:lnTo>
                    <a:pt x="458" y="766"/>
                  </a:lnTo>
                  <a:lnTo>
                    <a:pt x="478" y="781"/>
                  </a:lnTo>
                  <a:lnTo>
                    <a:pt x="501" y="788"/>
                  </a:lnTo>
                  <a:lnTo>
                    <a:pt x="526" y="788"/>
                  </a:lnTo>
                  <a:lnTo>
                    <a:pt x="549" y="781"/>
                  </a:lnTo>
                  <a:lnTo>
                    <a:pt x="570" y="766"/>
                  </a:lnTo>
                  <a:lnTo>
                    <a:pt x="587" y="748"/>
                  </a:lnTo>
                  <a:lnTo>
                    <a:pt x="597" y="725"/>
                  </a:lnTo>
                  <a:lnTo>
                    <a:pt x="602" y="700"/>
                  </a:lnTo>
                  <a:lnTo>
                    <a:pt x="602" y="86"/>
                  </a:lnTo>
                  <a:lnTo>
                    <a:pt x="602" y="86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13640" y="334800"/>
              <a:ext cx="981360" cy="416160"/>
            </a:xfrm>
            <a:custGeom>
              <a:avLst/>
              <a:gdLst/>
              <a:ahLst/>
              <a:rect l="l" t="t" r="r" b="b"/>
              <a:pathLst>
                <a:path w="1855" h="788">
                  <a:moveTo>
                    <a:pt x="1339" y="0"/>
                  </a:moveTo>
                  <a:lnTo>
                    <a:pt x="1363" y="2"/>
                  </a:lnTo>
                  <a:lnTo>
                    <a:pt x="1383" y="11"/>
                  </a:lnTo>
                  <a:lnTo>
                    <a:pt x="1402" y="25"/>
                  </a:lnTo>
                  <a:lnTo>
                    <a:pt x="1417" y="42"/>
                  </a:lnTo>
                  <a:lnTo>
                    <a:pt x="1424" y="63"/>
                  </a:lnTo>
                  <a:lnTo>
                    <a:pt x="1427" y="86"/>
                  </a:lnTo>
                  <a:lnTo>
                    <a:pt x="1427" y="613"/>
                  </a:lnTo>
                  <a:lnTo>
                    <a:pt x="1776" y="613"/>
                  </a:lnTo>
                  <a:lnTo>
                    <a:pt x="1801" y="619"/>
                  </a:lnTo>
                  <a:lnTo>
                    <a:pt x="1823" y="633"/>
                  </a:lnTo>
                  <a:lnTo>
                    <a:pt x="1840" y="655"/>
                  </a:lnTo>
                  <a:lnTo>
                    <a:pt x="1850" y="677"/>
                  </a:lnTo>
                  <a:lnTo>
                    <a:pt x="1855" y="705"/>
                  </a:lnTo>
                  <a:lnTo>
                    <a:pt x="1848" y="729"/>
                  </a:lnTo>
                  <a:lnTo>
                    <a:pt x="1835" y="752"/>
                  </a:lnTo>
                  <a:lnTo>
                    <a:pt x="1817" y="771"/>
                  </a:lnTo>
                  <a:lnTo>
                    <a:pt x="1792" y="784"/>
                  </a:lnTo>
                  <a:lnTo>
                    <a:pt x="1767" y="786"/>
                  </a:lnTo>
                  <a:lnTo>
                    <a:pt x="1331" y="786"/>
                  </a:lnTo>
                  <a:lnTo>
                    <a:pt x="1307" y="784"/>
                  </a:lnTo>
                  <a:lnTo>
                    <a:pt x="1289" y="775"/>
                  </a:lnTo>
                  <a:lnTo>
                    <a:pt x="1273" y="761"/>
                  </a:lnTo>
                  <a:lnTo>
                    <a:pt x="1260" y="743"/>
                  </a:lnTo>
                  <a:lnTo>
                    <a:pt x="1251" y="723"/>
                  </a:lnTo>
                  <a:lnTo>
                    <a:pt x="1251" y="700"/>
                  </a:lnTo>
                  <a:lnTo>
                    <a:pt x="1251" y="173"/>
                  </a:lnTo>
                  <a:lnTo>
                    <a:pt x="918" y="173"/>
                  </a:lnTo>
                  <a:lnTo>
                    <a:pt x="918" y="709"/>
                  </a:lnTo>
                  <a:lnTo>
                    <a:pt x="910" y="736"/>
                  </a:lnTo>
                  <a:lnTo>
                    <a:pt x="897" y="759"/>
                  </a:lnTo>
                  <a:lnTo>
                    <a:pt x="876" y="775"/>
                  </a:lnTo>
                  <a:lnTo>
                    <a:pt x="851" y="786"/>
                  </a:lnTo>
                  <a:lnTo>
                    <a:pt x="826" y="788"/>
                  </a:lnTo>
                  <a:lnTo>
                    <a:pt x="799" y="784"/>
                  </a:lnTo>
                  <a:lnTo>
                    <a:pt x="776" y="771"/>
                  </a:lnTo>
                  <a:lnTo>
                    <a:pt x="757" y="750"/>
                  </a:lnTo>
                  <a:lnTo>
                    <a:pt x="747" y="727"/>
                  </a:lnTo>
                  <a:lnTo>
                    <a:pt x="743" y="700"/>
                  </a:lnTo>
                  <a:lnTo>
                    <a:pt x="745" y="173"/>
                  </a:lnTo>
                  <a:lnTo>
                    <a:pt x="456" y="173"/>
                  </a:lnTo>
                  <a:lnTo>
                    <a:pt x="246" y="383"/>
                  </a:lnTo>
                  <a:lnTo>
                    <a:pt x="502" y="640"/>
                  </a:lnTo>
                  <a:lnTo>
                    <a:pt x="517" y="662"/>
                  </a:lnTo>
                  <a:lnTo>
                    <a:pt x="526" y="687"/>
                  </a:lnTo>
                  <a:lnTo>
                    <a:pt x="526" y="712"/>
                  </a:lnTo>
                  <a:lnTo>
                    <a:pt x="517" y="738"/>
                  </a:lnTo>
                  <a:lnTo>
                    <a:pt x="502" y="759"/>
                  </a:lnTo>
                  <a:lnTo>
                    <a:pt x="483" y="775"/>
                  </a:lnTo>
                  <a:lnTo>
                    <a:pt x="459" y="786"/>
                  </a:lnTo>
                  <a:lnTo>
                    <a:pt x="434" y="788"/>
                  </a:lnTo>
                  <a:lnTo>
                    <a:pt x="407" y="784"/>
                  </a:lnTo>
                  <a:lnTo>
                    <a:pt x="386" y="768"/>
                  </a:lnTo>
                  <a:lnTo>
                    <a:pt x="0" y="383"/>
                  </a:lnTo>
                  <a:lnTo>
                    <a:pt x="369" y="17"/>
                  </a:lnTo>
                  <a:lnTo>
                    <a:pt x="382" y="9"/>
                  </a:lnTo>
                  <a:lnTo>
                    <a:pt x="398" y="2"/>
                  </a:lnTo>
                  <a:lnTo>
                    <a:pt x="415" y="0"/>
                  </a:lnTo>
                  <a:lnTo>
                    <a:pt x="1339" y="0"/>
                  </a:lnTo>
                  <a:lnTo>
                    <a:pt x="1339" y="0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326520" y="334800"/>
              <a:ext cx="114480" cy="11448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3"/>
                  </a:lnTo>
                  <a:lnTo>
                    <a:pt x="54" y="202"/>
                  </a:lnTo>
                  <a:lnTo>
                    <a:pt x="34" y="186"/>
                  </a:lnTo>
                  <a:lnTo>
                    <a:pt x="15" y="162"/>
                  </a:lnTo>
                  <a:lnTo>
                    <a:pt x="4" y="138"/>
                  </a:lnTo>
                  <a:lnTo>
                    <a:pt x="0" y="108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5"/>
                  </a:lnTo>
                  <a:lnTo>
                    <a:pt x="81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3" y="15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81"/>
                  </a:lnTo>
                  <a:lnTo>
                    <a:pt x="217" y="108"/>
                  </a:lnTo>
                  <a:lnTo>
                    <a:pt x="214" y="135"/>
                  </a:lnTo>
                  <a:lnTo>
                    <a:pt x="203" y="162"/>
                  </a:lnTo>
                  <a:lnTo>
                    <a:pt x="186" y="186"/>
                  </a:lnTo>
                  <a:lnTo>
                    <a:pt x="163" y="202"/>
                  </a:lnTo>
                  <a:lnTo>
                    <a:pt x="138" y="213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26520" y="496800"/>
              <a:ext cx="114480" cy="11448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2"/>
                  </a:lnTo>
                  <a:lnTo>
                    <a:pt x="54" y="203"/>
                  </a:lnTo>
                  <a:lnTo>
                    <a:pt x="34" y="185"/>
                  </a:lnTo>
                  <a:lnTo>
                    <a:pt x="15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6"/>
                  </a:lnTo>
                  <a:lnTo>
                    <a:pt x="81" y="5"/>
                  </a:lnTo>
                  <a:lnTo>
                    <a:pt x="111" y="0"/>
                  </a:lnTo>
                  <a:lnTo>
                    <a:pt x="138" y="5"/>
                  </a:lnTo>
                  <a:lnTo>
                    <a:pt x="163" y="16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79"/>
                  </a:lnTo>
                  <a:lnTo>
                    <a:pt x="217" y="109"/>
                  </a:lnTo>
                  <a:lnTo>
                    <a:pt x="214" y="136"/>
                  </a:lnTo>
                  <a:lnTo>
                    <a:pt x="203" y="163"/>
                  </a:lnTo>
                  <a:lnTo>
                    <a:pt x="186" y="185"/>
                  </a:lnTo>
                  <a:lnTo>
                    <a:pt x="163" y="203"/>
                  </a:lnTo>
                  <a:lnTo>
                    <a:pt x="138" y="212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7240" y="476280"/>
              <a:ext cx="11412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0" y="217"/>
                  </a:moveTo>
                  <a:lnTo>
                    <a:pt x="81" y="212"/>
                  </a:lnTo>
                  <a:lnTo>
                    <a:pt x="56" y="202"/>
                  </a:lnTo>
                  <a:lnTo>
                    <a:pt x="33" y="185"/>
                  </a:lnTo>
                  <a:lnTo>
                    <a:pt x="14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4" y="55"/>
                  </a:lnTo>
                  <a:lnTo>
                    <a:pt x="33" y="31"/>
                  </a:lnTo>
                  <a:lnTo>
                    <a:pt x="56" y="14"/>
                  </a:lnTo>
                  <a:lnTo>
                    <a:pt x="81" y="4"/>
                  </a:lnTo>
                  <a:lnTo>
                    <a:pt x="110" y="0"/>
                  </a:lnTo>
                  <a:lnTo>
                    <a:pt x="137" y="4"/>
                  </a:lnTo>
                  <a:lnTo>
                    <a:pt x="162" y="14"/>
                  </a:lnTo>
                  <a:lnTo>
                    <a:pt x="185" y="31"/>
                  </a:lnTo>
                  <a:lnTo>
                    <a:pt x="201" y="55"/>
                  </a:lnTo>
                  <a:lnTo>
                    <a:pt x="212" y="82"/>
                  </a:lnTo>
                  <a:lnTo>
                    <a:pt x="217" y="109"/>
                  </a:lnTo>
                  <a:lnTo>
                    <a:pt x="212" y="136"/>
                  </a:lnTo>
                  <a:lnTo>
                    <a:pt x="201" y="163"/>
                  </a:lnTo>
                  <a:lnTo>
                    <a:pt x="185" y="185"/>
                  </a:lnTo>
                  <a:lnTo>
                    <a:pt x="162" y="202"/>
                  </a:lnTo>
                  <a:lnTo>
                    <a:pt x="137" y="212"/>
                  </a:lnTo>
                  <a:lnTo>
                    <a:pt x="110" y="217"/>
                  </a:lnTo>
                  <a:lnTo>
                    <a:pt x="110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47240" y="638280"/>
              <a:ext cx="114120" cy="11268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10" y="214"/>
                  </a:moveTo>
                  <a:lnTo>
                    <a:pt x="81" y="212"/>
                  </a:lnTo>
                  <a:lnTo>
                    <a:pt x="56" y="201"/>
                  </a:lnTo>
                  <a:lnTo>
                    <a:pt x="33" y="185"/>
                  </a:lnTo>
                  <a:lnTo>
                    <a:pt x="14" y="162"/>
                  </a:lnTo>
                  <a:lnTo>
                    <a:pt x="4" y="135"/>
                  </a:lnTo>
                  <a:lnTo>
                    <a:pt x="0" y="106"/>
                  </a:lnTo>
                  <a:lnTo>
                    <a:pt x="4" y="79"/>
                  </a:lnTo>
                  <a:lnTo>
                    <a:pt x="14" y="52"/>
                  </a:lnTo>
                  <a:lnTo>
                    <a:pt x="33" y="28"/>
                  </a:lnTo>
                  <a:lnTo>
                    <a:pt x="56" y="12"/>
                  </a:lnTo>
                  <a:lnTo>
                    <a:pt x="81" y="1"/>
                  </a:lnTo>
                  <a:lnTo>
                    <a:pt x="110" y="0"/>
                  </a:lnTo>
                  <a:lnTo>
                    <a:pt x="137" y="1"/>
                  </a:lnTo>
                  <a:lnTo>
                    <a:pt x="162" y="12"/>
                  </a:lnTo>
                  <a:lnTo>
                    <a:pt x="185" y="30"/>
                  </a:lnTo>
                  <a:lnTo>
                    <a:pt x="201" y="52"/>
                  </a:lnTo>
                  <a:lnTo>
                    <a:pt x="212" y="79"/>
                  </a:lnTo>
                  <a:lnTo>
                    <a:pt x="217" y="106"/>
                  </a:lnTo>
                  <a:lnTo>
                    <a:pt x="212" y="135"/>
                  </a:lnTo>
                  <a:lnTo>
                    <a:pt x="201" y="160"/>
                  </a:lnTo>
                  <a:lnTo>
                    <a:pt x="185" y="182"/>
                  </a:lnTo>
                  <a:lnTo>
                    <a:pt x="162" y="201"/>
                  </a:lnTo>
                  <a:lnTo>
                    <a:pt x="137" y="212"/>
                  </a:lnTo>
                  <a:lnTo>
                    <a:pt x="110" y="214"/>
                  </a:lnTo>
                  <a:lnTo>
                    <a:pt x="110" y="2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47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50C-7B28-4086-934D-FC5362B59F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300560" y="6237360"/>
            <a:ext cx="1300320" cy="415800"/>
            <a:chOff x="4300560" y="6237360"/>
            <a:chExt cx="1300320" cy="415800"/>
          </a:xfrm>
        </p:grpSpPr>
        <p:sp>
          <p:nvSpPr>
            <p:cNvPr id="52" name=""/>
            <p:cNvSpPr/>
            <p:nvPr/>
          </p:nvSpPr>
          <p:spPr>
            <a:xfrm>
              <a:off x="4300560" y="6237360"/>
              <a:ext cx="317520" cy="415800"/>
            </a:xfrm>
            <a:custGeom>
              <a:avLst/>
              <a:gdLst/>
              <a:ahLst/>
              <a:rect l="l" t="t" r="r" b="b"/>
              <a:pathLst>
                <a:path w="602" h="788">
                  <a:moveTo>
                    <a:pt x="602" y="86"/>
                  </a:moveTo>
                  <a:lnTo>
                    <a:pt x="600" y="65"/>
                  </a:lnTo>
                  <a:lnTo>
                    <a:pt x="591" y="45"/>
                  </a:lnTo>
                  <a:lnTo>
                    <a:pt x="577" y="25"/>
                  </a:lnTo>
                  <a:lnTo>
                    <a:pt x="557" y="11"/>
                  </a:lnTo>
                  <a:lnTo>
                    <a:pt x="537" y="2"/>
                  </a:lnTo>
                  <a:lnTo>
                    <a:pt x="516" y="0"/>
                  </a:lnTo>
                  <a:lnTo>
                    <a:pt x="79" y="0"/>
                  </a:lnTo>
                  <a:lnTo>
                    <a:pt x="54" y="7"/>
                  </a:lnTo>
                  <a:lnTo>
                    <a:pt x="32" y="22"/>
                  </a:lnTo>
                  <a:lnTo>
                    <a:pt x="15" y="40"/>
                  </a:lnTo>
                  <a:lnTo>
                    <a:pt x="5" y="63"/>
                  </a:lnTo>
                  <a:lnTo>
                    <a:pt x="0" y="88"/>
                  </a:lnTo>
                  <a:lnTo>
                    <a:pt x="5" y="113"/>
                  </a:lnTo>
                  <a:lnTo>
                    <a:pt x="15" y="135"/>
                  </a:lnTo>
                  <a:lnTo>
                    <a:pt x="32" y="155"/>
                  </a:lnTo>
                  <a:lnTo>
                    <a:pt x="54" y="167"/>
                  </a:lnTo>
                  <a:lnTo>
                    <a:pt x="79" y="173"/>
                  </a:lnTo>
                  <a:lnTo>
                    <a:pt x="428" y="173"/>
                  </a:lnTo>
                  <a:lnTo>
                    <a:pt x="428" y="700"/>
                  </a:lnTo>
                  <a:lnTo>
                    <a:pt x="431" y="725"/>
                  </a:lnTo>
                  <a:lnTo>
                    <a:pt x="440" y="748"/>
                  </a:lnTo>
                  <a:lnTo>
                    <a:pt x="458" y="766"/>
                  </a:lnTo>
                  <a:lnTo>
                    <a:pt x="478" y="781"/>
                  </a:lnTo>
                  <a:lnTo>
                    <a:pt x="501" y="788"/>
                  </a:lnTo>
                  <a:lnTo>
                    <a:pt x="526" y="788"/>
                  </a:lnTo>
                  <a:lnTo>
                    <a:pt x="549" y="781"/>
                  </a:lnTo>
                  <a:lnTo>
                    <a:pt x="570" y="766"/>
                  </a:lnTo>
                  <a:lnTo>
                    <a:pt x="587" y="748"/>
                  </a:lnTo>
                  <a:lnTo>
                    <a:pt x="597" y="725"/>
                  </a:lnTo>
                  <a:lnTo>
                    <a:pt x="602" y="700"/>
                  </a:lnTo>
                  <a:lnTo>
                    <a:pt x="602" y="86"/>
                  </a:lnTo>
                  <a:lnTo>
                    <a:pt x="602" y="86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19520" y="6237360"/>
              <a:ext cx="981360" cy="415800"/>
            </a:xfrm>
            <a:custGeom>
              <a:avLst/>
              <a:gdLst/>
              <a:ahLst/>
              <a:rect l="l" t="t" r="r" b="b"/>
              <a:pathLst>
                <a:path w="1855" h="788">
                  <a:moveTo>
                    <a:pt x="1339" y="0"/>
                  </a:moveTo>
                  <a:lnTo>
                    <a:pt x="1363" y="2"/>
                  </a:lnTo>
                  <a:lnTo>
                    <a:pt x="1383" y="11"/>
                  </a:lnTo>
                  <a:lnTo>
                    <a:pt x="1402" y="25"/>
                  </a:lnTo>
                  <a:lnTo>
                    <a:pt x="1417" y="42"/>
                  </a:lnTo>
                  <a:lnTo>
                    <a:pt x="1424" y="63"/>
                  </a:lnTo>
                  <a:lnTo>
                    <a:pt x="1427" y="86"/>
                  </a:lnTo>
                  <a:lnTo>
                    <a:pt x="1427" y="613"/>
                  </a:lnTo>
                  <a:lnTo>
                    <a:pt x="1776" y="613"/>
                  </a:lnTo>
                  <a:lnTo>
                    <a:pt x="1801" y="619"/>
                  </a:lnTo>
                  <a:lnTo>
                    <a:pt x="1823" y="633"/>
                  </a:lnTo>
                  <a:lnTo>
                    <a:pt x="1840" y="655"/>
                  </a:lnTo>
                  <a:lnTo>
                    <a:pt x="1850" y="677"/>
                  </a:lnTo>
                  <a:lnTo>
                    <a:pt x="1855" y="705"/>
                  </a:lnTo>
                  <a:lnTo>
                    <a:pt x="1848" y="729"/>
                  </a:lnTo>
                  <a:lnTo>
                    <a:pt x="1835" y="752"/>
                  </a:lnTo>
                  <a:lnTo>
                    <a:pt x="1817" y="771"/>
                  </a:lnTo>
                  <a:lnTo>
                    <a:pt x="1792" y="784"/>
                  </a:lnTo>
                  <a:lnTo>
                    <a:pt x="1767" y="786"/>
                  </a:lnTo>
                  <a:lnTo>
                    <a:pt x="1331" y="786"/>
                  </a:lnTo>
                  <a:lnTo>
                    <a:pt x="1307" y="784"/>
                  </a:lnTo>
                  <a:lnTo>
                    <a:pt x="1289" y="775"/>
                  </a:lnTo>
                  <a:lnTo>
                    <a:pt x="1273" y="761"/>
                  </a:lnTo>
                  <a:lnTo>
                    <a:pt x="1260" y="743"/>
                  </a:lnTo>
                  <a:lnTo>
                    <a:pt x="1251" y="723"/>
                  </a:lnTo>
                  <a:lnTo>
                    <a:pt x="1251" y="700"/>
                  </a:lnTo>
                  <a:lnTo>
                    <a:pt x="1251" y="173"/>
                  </a:lnTo>
                  <a:lnTo>
                    <a:pt x="918" y="173"/>
                  </a:lnTo>
                  <a:lnTo>
                    <a:pt x="918" y="709"/>
                  </a:lnTo>
                  <a:lnTo>
                    <a:pt x="910" y="736"/>
                  </a:lnTo>
                  <a:lnTo>
                    <a:pt x="897" y="759"/>
                  </a:lnTo>
                  <a:lnTo>
                    <a:pt x="876" y="775"/>
                  </a:lnTo>
                  <a:lnTo>
                    <a:pt x="851" y="786"/>
                  </a:lnTo>
                  <a:lnTo>
                    <a:pt x="826" y="788"/>
                  </a:lnTo>
                  <a:lnTo>
                    <a:pt x="799" y="784"/>
                  </a:lnTo>
                  <a:lnTo>
                    <a:pt x="776" y="771"/>
                  </a:lnTo>
                  <a:lnTo>
                    <a:pt x="757" y="750"/>
                  </a:lnTo>
                  <a:lnTo>
                    <a:pt x="747" y="727"/>
                  </a:lnTo>
                  <a:lnTo>
                    <a:pt x="743" y="700"/>
                  </a:lnTo>
                  <a:lnTo>
                    <a:pt x="745" y="173"/>
                  </a:lnTo>
                  <a:lnTo>
                    <a:pt x="456" y="173"/>
                  </a:lnTo>
                  <a:lnTo>
                    <a:pt x="246" y="383"/>
                  </a:lnTo>
                  <a:lnTo>
                    <a:pt x="502" y="640"/>
                  </a:lnTo>
                  <a:lnTo>
                    <a:pt x="517" y="662"/>
                  </a:lnTo>
                  <a:lnTo>
                    <a:pt x="526" y="687"/>
                  </a:lnTo>
                  <a:lnTo>
                    <a:pt x="526" y="712"/>
                  </a:lnTo>
                  <a:lnTo>
                    <a:pt x="517" y="738"/>
                  </a:lnTo>
                  <a:lnTo>
                    <a:pt x="502" y="759"/>
                  </a:lnTo>
                  <a:lnTo>
                    <a:pt x="483" y="775"/>
                  </a:lnTo>
                  <a:lnTo>
                    <a:pt x="459" y="786"/>
                  </a:lnTo>
                  <a:lnTo>
                    <a:pt x="434" y="788"/>
                  </a:lnTo>
                  <a:lnTo>
                    <a:pt x="407" y="784"/>
                  </a:lnTo>
                  <a:lnTo>
                    <a:pt x="386" y="768"/>
                  </a:lnTo>
                  <a:lnTo>
                    <a:pt x="0" y="383"/>
                  </a:lnTo>
                  <a:lnTo>
                    <a:pt x="369" y="17"/>
                  </a:lnTo>
                  <a:lnTo>
                    <a:pt x="382" y="9"/>
                  </a:lnTo>
                  <a:lnTo>
                    <a:pt x="398" y="2"/>
                  </a:lnTo>
                  <a:lnTo>
                    <a:pt x="415" y="0"/>
                  </a:lnTo>
                  <a:lnTo>
                    <a:pt x="1339" y="0"/>
                  </a:lnTo>
                  <a:lnTo>
                    <a:pt x="1339" y="0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2400" y="6237360"/>
              <a:ext cx="11448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3"/>
                  </a:lnTo>
                  <a:lnTo>
                    <a:pt x="54" y="202"/>
                  </a:lnTo>
                  <a:lnTo>
                    <a:pt x="34" y="186"/>
                  </a:lnTo>
                  <a:lnTo>
                    <a:pt x="15" y="162"/>
                  </a:lnTo>
                  <a:lnTo>
                    <a:pt x="4" y="138"/>
                  </a:lnTo>
                  <a:lnTo>
                    <a:pt x="0" y="108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5"/>
                  </a:lnTo>
                  <a:lnTo>
                    <a:pt x="81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3" y="15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81"/>
                  </a:lnTo>
                  <a:lnTo>
                    <a:pt x="217" y="108"/>
                  </a:lnTo>
                  <a:lnTo>
                    <a:pt x="214" y="135"/>
                  </a:lnTo>
                  <a:lnTo>
                    <a:pt x="203" y="162"/>
                  </a:lnTo>
                  <a:lnTo>
                    <a:pt x="186" y="186"/>
                  </a:lnTo>
                  <a:lnTo>
                    <a:pt x="163" y="202"/>
                  </a:lnTo>
                  <a:lnTo>
                    <a:pt x="138" y="213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2400" y="6399000"/>
              <a:ext cx="11448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2"/>
                  </a:lnTo>
                  <a:lnTo>
                    <a:pt x="54" y="203"/>
                  </a:lnTo>
                  <a:lnTo>
                    <a:pt x="34" y="185"/>
                  </a:lnTo>
                  <a:lnTo>
                    <a:pt x="15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6"/>
                  </a:lnTo>
                  <a:lnTo>
                    <a:pt x="81" y="5"/>
                  </a:lnTo>
                  <a:lnTo>
                    <a:pt x="111" y="0"/>
                  </a:lnTo>
                  <a:lnTo>
                    <a:pt x="138" y="5"/>
                  </a:lnTo>
                  <a:lnTo>
                    <a:pt x="163" y="16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79"/>
                  </a:lnTo>
                  <a:lnTo>
                    <a:pt x="217" y="109"/>
                  </a:lnTo>
                  <a:lnTo>
                    <a:pt x="214" y="136"/>
                  </a:lnTo>
                  <a:lnTo>
                    <a:pt x="203" y="163"/>
                  </a:lnTo>
                  <a:lnTo>
                    <a:pt x="186" y="185"/>
                  </a:lnTo>
                  <a:lnTo>
                    <a:pt x="163" y="203"/>
                  </a:lnTo>
                  <a:lnTo>
                    <a:pt x="138" y="212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53120" y="6378480"/>
              <a:ext cx="114120" cy="11376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0" y="217"/>
                  </a:moveTo>
                  <a:lnTo>
                    <a:pt x="81" y="212"/>
                  </a:lnTo>
                  <a:lnTo>
                    <a:pt x="56" y="202"/>
                  </a:lnTo>
                  <a:lnTo>
                    <a:pt x="33" y="185"/>
                  </a:lnTo>
                  <a:lnTo>
                    <a:pt x="14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4" y="55"/>
                  </a:lnTo>
                  <a:lnTo>
                    <a:pt x="33" y="31"/>
                  </a:lnTo>
                  <a:lnTo>
                    <a:pt x="56" y="14"/>
                  </a:lnTo>
                  <a:lnTo>
                    <a:pt x="81" y="4"/>
                  </a:lnTo>
                  <a:lnTo>
                    <a:pt x="110" y="0"/>
                  </a:lnTo>
                  <a:lnTo>
                    <a:pt x="137" y="4"/>
                  </a:lnTo>
                  <a:lnTo>
                    <a:pt x="162" y="14"/>
                  </a:lnTo>
                  <a:lnTo>
                    <a:pt x="185" y="31"/>
                  </a:lnTo>
                  <a:lnTo>
                    <a:pt x="201" y="55"/>
                  </a:lnTo>
                  <a:lnTo>
                    <a:pt x="212" y="82"/>
                  </a:lnTo>
                  <a:lnTo>
                    <a:pt x="217" y="109"/>
                  </a:lnTo>
                  <a:lnTo>
                    <a:pt x="212" y="136"/>
                  </a:lnTo>
                  <a:lnTo>
                    <a:pt x="201" y="163"/>
                  </a:lnTo>
                  <a:lnTo>
                    <a:pt x="185" y="185"/>
                  </a:lnTo>
                  <a:lnTo>
                    <a:pt x="162" y="202"/>
                  </a:lnTo>
                  <a:lnTo>
                    <a:pt x="137" y="212"/>
                  </a:lnTo>
                  <a:lnTo>
                    <a:pt x="110" y="217"/>
                  </a:lnTo>
                  <a:lnTo>
                    <a:pt x="110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53120" y="6540480"/>
              <a:ext cx="114120" cy="11232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10" y="214"/>
                  </a:moveTo>
                  <a:lnTo>
                    <a:pt x="81" y="212"/>
                  </a:lnTo>
                  <a:lnTo>
                    <a:pt x="56" y="201"/>
                  </a:lnTo>
                  <a:lnTo>
                    <a:pt x="33" y="185"/>
                  </a:lnTo>
                  <a:lnTo>
                    <a:pt x="14" y="162"/>
                  </a:lnTo>
                  <a:lnTo>
                    <a:pt x="4" y="135"/>
                  </a:lnTo>
                  <a:lnTo>
                    <a:pt x="0" y="106"/>
                  </a:lnTo>
                  <a:lnTo>
                    <a:pt x="4" y="79"/>
                  </a:lnTo>
                  <a:lnTo>
                    <a:pt x="14" y="52"/>
                  </a:lnTo>
                  <a:lnTo>
                    <a:pt x="33" y="28"/>
                  </a:lnTo>
                  <a:lnTo>
                    <a:pt x="56" y="12"/>
                  </a:lnTo>
                  <a:lnTo>
                    <a:pt x="81" y="1"/>
                  </a:lnTo>
                  <a:lnTo>
                    <a:pt x="110" y="0"/>
                  </a:lnTo>
                  <a:lnTo>
                    <a:pt x="137" y="1"/>
                  </a:lnTo>
                  <a:lnTo>
                    <a:pt x="162" y="12"/>
                  </a:lnTo>
                  <a:lnTo>
                    <a:pt x="185" y="30"/>
                  </a:lnTo>
                  <a:lnTo>
                    <a:pt x="201" y="52"/>
                  </a:lnTo>
                  <a:lnTo>
                    <a:pt x="212" y="79"/>
                  </a:lnTo>
                  <a:lnTo>
                    <a:pt x="217" y="106"/>
                  </a:lnTo>
                  <a:lnTo>
                    <a:pt x="212" y="135"/>
                  </a:lnTo>
                  <a:lnTo>
                    <a:pt x="201" y="160"/>
                  </a:lnTo>
                  <a:lnTo>
                    <a:pt x="185" y="182"/>
                  </a:lnTo>
                  <a:lnTo>
                    <a:pt x="162" y="201"/>
                  </a:lnTo>
                  <a:lnTo>
                    <a:pt x="137" y="212"/>
                  </a:lnTo>
                  <a:lnTo>
                    <a:pt x="110" y="214"/>
                  </a:lnTo>
                  <a:lnTo>
                    <a:pt x="110" y="2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47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c479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479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6160" y="1915920"/>
            <a:ext cx="842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c479d"/>
                </a:solidFill>
                <a:latin typeface="Arial"/>
              </a:rPr>
              <a:t>Kaupunkirakenne:</a:t>
            </a:r>
            <a:br>
              <a:rPr sz="4000"/>
            </a:br>
            <a:r>
              <a:rPr b="1" lang="fi-FI" sz="4000" spc="-1" strike="noStrike">
                <a:solidFill>
                  <a:srgbClr val="0c479d"/>
                </a:solidFill>
                <a:latin typeface="Arial"/>
              </a:rPr>
              <a:t>ilmastopolitiikka, terveys ja hyvinvointi </a:t>
            </a:r>
            <a:endParaRPr b="0" lang="en-US" sz="4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96880" y="41497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c479d"/>
                </a:solidFill>
                <a:latin typeface="Arial"/>
              </a:rPr>
              <a:t>Matti Jantunen</a:t>
            </a: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, tutkimusprofessori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479d"/>
                </a:solidFill>
                <a:latin typeface="Arial"/>
              </a:rPr>
              <a:t>KTL – Ympäristöterveys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Kuopio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05240" y="836640"/>
            <a:ext cx="1368360" cy="276480"/>
          </a:xfrm>
          <a:prstGeom prst="rect">
            <a:avLst/>
          </a:prstGeom>
          <a:solidFill>
            <a:srgbClr val="f7f78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 Narrow"/>
              </a:rPr>
              <a:t>Liik                  u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20880" y="620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 Narrow"/>
              </a:rPr>
              <a:t>Halli / urheilukeskusliikunt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73240" y="62064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52880" y="2637000"/>
            <a:ext cx="1008000" cy="16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16160" y="2637000"/>
            <a:ext cx="30970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68520" y="2637000"/>
            <a:ext cx="216000" cy="338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68520" y="1197000"/>
            <a:ext cx="396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248520" y="2852640"/>
            <a:ext cx="720720" cy="14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513240" y="2923920"/>
            <a:ext cx="3456000" cy="165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12880" y="2637000"/>
            <a:ext cx="503280" cy="23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8265600" y="2997000"/>
            <a:ext cx="142920" cy="21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6537240" y="2781000"/>
            <a:ext cx="4320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6248160" y="3141720"/>
            <a:ext cx="216036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15800" y="2565000"/>
            <a:ext cx="61945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4376520" y="2636640"/>
            <a:ext cx="2663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213000"/>
            <a:ext cx="5032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944520" y="4797360"/>
            <a:ext cx="28908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720880" y="5229360"/>
            <a:ext cx="11527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720880" y="5084280"/>
            <a:ext cx="64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40160" y="443700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Metsähake-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4016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Lämpöpum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12880" y="6021360"/>
            <a:ext cx="189540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Puun pienpol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37600" y="3068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"/>
              </a:rPr>
              <a:t>Ydinenerg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69240" y="263700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Sähkön ja lämmön yhteistuot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57240" y="5013360"/>
            <a:ext cx="100836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Öljy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2880" y="5805360"/>
            <a:ext cx="108108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Turve-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8880" y="6237360"/>
            <a:ext cx="93672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Hiili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97240" y="4581360"/>
            <a:ext cx="137016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Maakaasu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479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92880" y="2276640"/>
            <a:ext cx="11509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Lämmönerist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89600" y="1628640"/>
            <a:ext cx="144000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Moderni IV-teknii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20880" y="189000"/>
            <a:ext cx="37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Urheiluhallit, ostos-, viihde-, kulttuuri- ja koulutuslaitokset (urheilukeskukset, vapaa-ajan asun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12160" y="5661000"/>
            <a:ext cx="17269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Vähempi ilmanvai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32880" y="6237360"/>
            <a:ext cx="15127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Pienemmät asu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08880" y="5113440"/>
            <a:ext cx="165564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Huonelämpötila &lt; 20 </a:t>
            </a:r>
            <a:r>
              <a:rPr b="1" lang="en-US" sz="1200" spc="-1" strike="noStrike">
                <a:solidFill>
                  <a:srgbClr val="993300"/>
                </a:solidFill>
                <a:latin typeface="Arial Narrow"/>
                <a:ea typeface="Arial"/>
              </a:rPr>
              <a:t>º</a:t>
            </a: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8440" y="1046160"/>
            <a:ext cx="170172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Suuremmat </a:t>
            </a: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asu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84520" y="2924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 Narrow"/>
              </a:rPr>
              <a:t>Pikkulapsille </a:t>
            </a:r>
            <a:r>
              <a:rPr b="1" lang="en-GB" sz="1200" spc="-1" strike="noStrike">
                <a:solidFill>
                  <a:srgbClr val="993300"/>
                </a:solidFill>
                <a:latin typeface="Arial Narrow"/>
              </a:rPr>
              <a:t>päiväko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494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7689600" y="3068280"/>
            <a:ext cx="71892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7616880" y="3068280"/>
            <a:ext cx="792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081240" y="907920"/>
            <a:ext cx="432000" cy="115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400880" y="1052640"/>
            <a:ext cx="151308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08160" y="2637000"/>
            <a:ext cx="0" cy="15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5240" y="2276640"/>
            <a:ext cx="431640" cy="19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149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516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52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523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28520" y="1341360"/>
            <a:ext cx="3456000" cy="587160"/>
          </a:xfrm>
          <a:prstGeom prst="rect">
            <a:avLst/>
          </a:prstGeom>
          <a:solidFill>
            <a:srgbClr val="f7f78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aihtoehdoista muutamat ovat jokseenkin muista riippumatt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F4E-8730-427D-A31E-7429E25A88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fef"/>
                </a:solidFill>
                <a:latin typeface="Arial Narrow"/>
              </a:rPr>
              <a:t>Suomen ilmastopolitiikka ei vaikuta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Maailman, Suomen tai esim Kuopion ilmastoon sen enempää kuin minkään muunkaan 5 miljoonan ihmisen joukon ilmastopolitiikka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Kaikki yhdessä ne kuitenkin vaikuttavat, mutta hitaasti ja viiveellä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Ilmasto muuttuu globaalisti – paikallisen ilmaston muutos ei riipu paikallisten päästöjen muutoksesta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Suomen ilmastopoliittisilla valinnoilla – t.s. kasvihuonekaasupäästöjen (KhK) vähentämis-vaihtoehdoilla – ei siis ole erityistä vaikutusta Suomen ilmastoo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1F8-7139-4585-95CE-4F853925A4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0ffef"/>
                </a:solidFill>
                <a:latin typeface="Arial Narrow"/>
              </a:rPr>
              <a:t>Sensijaan ilmastopolitiikka vaikuttaa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liikenteeseen, liikenteen päästöihin ja hyöty- ja harrastusliikuntaan,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lämmön ja sähköntuotannon kustannuksiin ja päästöihin,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kaupungin ilman laatuun,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rakennusten varusteluun, väljyyteen, asumisen kustannuksiin ja sisäilman laatuun,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sosiaaliseen ja esteettiseen ympäristöön, sek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edellämainittujen tekijöiden kautta terveyteen ja toimintakykyy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Kaikki nämä vaikutukset voivat olla valituista KhK vähentämiseksi valituista energia-, asunto-, liikenne- ja yhdyskuntapolitiikoista riippuen hyödyllisiä tai haitallisia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C95-CB64-4F10-81EA-78ABC2AEDD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45240" y="2060640"/>
            <a:ext cx="41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punkirakenteen puitteissa ”kaikki vaikuttaa kaikke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49600" y="5877000"/>
            <a:ext cx="388800" cy="287280"/>
          </a:xfrm>
          <a:prstGeom prst="leftArrow">
            <a:avLst>
              <a:gd name="adj1" fmla="val 50000"/>
              <a:gd name="adj2" fmla="val 3383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240" y="1052640"/>
            <a:ext cx="416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KhK-politiikka on ulkopuolelta annettu reunaeh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880" y="260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4fafa"/>
                </a:solidFill>
                <a:latin typeface="Arial Narrow"/>
              </a:rPr>
              <a:t>Kaupungin ilmastopolitiik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5160" y="3141720"/>
            <a:ext cx="549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653000"/>
            <a:ext cx="41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konaisuuden optimointi edellyttää monitieteistä tutkimusta ja sektorirajat ylittävää kehittämis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45240" y="3357720"/>
            <a:ext cx="41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kin osa-alueen erillinen optimointi johtaa ristiriitaisiin toimenpiteisi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660" t="9843" r="16063" b="12800"/>
          <a:stretch/>
        </p:blipFill>
        <p:spPr>
          <a:xfrm>
            <a:off x="200160" y="1052640"/>
            <a:ext cx="518472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79F-9261-4048-B7BA-86A585743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0ffef"/>
                </a:solidFill>
                <a:latin typeface="Arial Narrow"/>
              </a:rPr>
              <a:t>Ilmasto- ja hyvinvointivaikutusten nelikenttä</a:t>
            </a:r>
            <a:endParaRPr b="0" lang="en-US" sz="3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0160" y="2492280"/>
            <a:ext cx="293688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Ilmastopoliittiset valinnat vaikuttavat sek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paikallisiin kasvihuonekaasupäästöihin, ett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väestön terveyteen ja hyvinvointii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81240" y="1125360"/>
            <a:ext cx="6528960" cy="4390920"/>
            <a:chOff x="3081240" y="1125360"/>
            <a:chExt cx="6528960" cy="4390920"/>
          </a:xfrm>
        </p:grpSpPr>
        <p:sp>
          <p:nvSpPr>
            <p:cNvPr id="112" name=""/>
            <p:cNvSpPr/>
            <p:nvPr/>
          </p:nvSpPr>
          <p:spPr>
            <a:xfrm>
              <a:off x="3163320" y="1126800"/>
              <a:ext cx="3213000" cy="2270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46960" y="3547800"/>
              <a:ext cx="3042720" cy="1968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63320" y="3472560"/>
              <a:ext cx="3213000" cy="20437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6680" y="1125360"/>
              <a:ext cx="3212640" cy="234576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4200" y="3167280"/>
              <a:ext cx="6426000" cy="682560"/>
            </a:xfrm>
            <a:prstGeom prst="rightArrow">
              <a:avLst>
                <a:gd name="adj1" fmla="val 50000"/>
                <a:gd name="adj2" fmla="val 2353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86400" y="3319200"/>
              <a:ext cx="503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5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0" lang="fi-FI" sz="1500" spc="-1" strike="noStrike">
                  <a:solidFill>
                    <a:srgbClr val="990033"/>
                  </a:solidFill>
                  <a:latin typeface="Arial"/>
                </a:rPr>
                <a:t>+   Vaikutus kasvihuone          kaasupäästöihin   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8280" y="1125360"/>
              <a:ext cx="766800" cy="4389480"/>
            </a:xfrm>
            <a:prstGeom prst="upArrow">
              <a:avLst>
                <a:gd name="adj1" fmla="val 50000"/>
                <a:gd name="adj2" fmla="val 143110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494600" y="3537000"/>
              <a:ext cx="3633480" cy="3070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333399"/>
                  </a:solidFill>
                  <a:latin typeface="Arial"/>
                </a:rPr>
                <a:t>-   Vaikutus terveyteen ja hyvinvointiin   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4200" y="2413080"/>
              <a:ext cx="1689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09680" y="2640240"/>
              <a:ext cx="13532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16000" y="4078440"/>
              <a:ext cx="25351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63120" y="3092400"/>
              <a:ext cx="17733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960" y="2715120"/>
              <a:ext cx="14360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89720" y="4380120"/>
              <a:ext cx="17766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9960" y="1730880"/>
              <a:ext cx="1097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1125360"/>
              <a:ext cx="21999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680" y="2261520"/>
              <a:ext cx="13518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1520" y="2867040"/>
              <a:ext cx="135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58040" y="2940480"/>
              <a:ext cx="18590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14520" y="1276920"/>
              <a:ext cx="1690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4800" spc="-1" strike="noStrike">
                  <a:solidFill>
                    <a:srgbClr val="ddf2ff"/>
                  </a:solidFill>
                  <a:latin typeface="Arial"/>
                </a:rPr>
                <a:t>WIN W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9720" y="3774960"/>
              <a:ext cx="219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4800" spc="-1" strike="noStrike">
                  <a:solidFill>
                    <a:srgbClr val="fed5d2"/>
                  </a:solidFill>
                  <a:latin typeface="Arial"/>
                </a:rPr>
                <a:t>LOSE LO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35720" y="1353600"/>
              <a:ext cx="12675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1240" y="4078440"/>
              <a:ext cx="2449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 Narrow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 Narrow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08840" y="3772800"/>
              <a:ext cx="1773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9680" y="4909320"/>
              <a:ext cx="21135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13080" y="1732320"/>
              <a:ext cx="1098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1800" y="2563200"/>
              <a:ext cx="18594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9680" y="1805760"/>
              <a:ext cx="11833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00160" y="5516640"/>
            <a:ext cx="951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tään siis 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WIN-W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ihtoehtoja, jotka sekä vähentävät kasvihuonekaasupäästöjä, että edistävät terveyttä ja hyvinvoint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2C0-44A7-4F9C-A6A3-3BF3CF8D7C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15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154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160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12880" y="466560"/>
            <a:ext cx="7959600" cy="5308200"/>
            <a:chOff x="1712880" y="466560"/>
            <a:chExt cx="7959600" cy="5308200"/>
          </a:xfrm>
        </p:grpSpPr>
        <p:sp>
          <p:nvSpPr>
            <p:cNvPr id="163" name=""/>
            <p:cNvSpPr/>
            <p:nvPr/>
          </p:nvSpPr>
          <p:spPr>
            <a:xfrm>
              <a:off x="1712880" y="198900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00880" y="25653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0080" y="46656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1268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60880" y="4076640"/>
              <a:ext cx="576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7240" y="494172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44880" y="551664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8880" y="407664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172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72880" y="2637000"/>
            <a:ext cx="9144000" cy="3876840"/>
            <a:chOff x="272880" y="2637000"/>
            <a:chExt cx="9144000" cy="3876840"/>
          </a:xfrm>
        </p:grpSpPr>
        <p:sp>
          <p:nvSpPr>
            <p:cNvPr id="181" name=""/>
            <p:cNvSpPr/>
            <p:nvPr/>
          </p:nvSpPr>
          <p:spPr>
            <a:xfrm>
              <a:off x="5240160" y="4437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40160" y="292428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602136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37600" y="30686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69240" y="2637000"/>
              <a:ext cx="129672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7240" y="501336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2880" y="580536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8880" y="62373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4160" y="4581360"/>
              <a:ext cx="13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191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0160" y="1341360"/>
            <a:ext cx="388908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Erilaiset politiikat ja vaihtoehdot voidaan sijoitella tähän nelikenttää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9F6-8B1C-4C0E-9AB6-4D9829F156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203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73240" y="62064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81240" y="2637000"/>
            <a:ext cx="1079640" cy="158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16160" y="2637000"/>
            <a:ext cx="30970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2637000"/>
            <a:ext cx="431640" cy="338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68520" y="1197000"/>
            <a:ext cx="396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248520" y="2852640"/>
            <a:ext cx="720720" cy="14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13240" y="2923920"/>
            <a:ext cx="3456000" cy="165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2880" y="2637000"/>
            <a:ext cx="503280" cy="23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8265600" y="2997000"/>
            <a:ext cx="142920" cy="21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537240" y="2781000"/>
            <a:ext cx="4320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248160" y="3141720"/>
            <a:ext cx="216036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289240" y="2565000"/>
            <a:ext cx="612144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376520" y="2636640"/>
            <a:ext cx="2663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3213000"/>
            <a:ext cx="50328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231800" y="4653000"/>
            <a:ext cx="122580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20880" y="5229360"/>
            <a:ext cx="11527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720880" y="5084280"/>
            <a:ext cx="64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2880" y="2637000"/>
            <a:ext cx="9144000" cy="3876840"/>
            <a:chOff x="272880" y="2637000"/>
            <a:chExt cx="9144000" cy="3876840"/>
          </a:xfrm>
        </p:grpSpPr>
        <p:sp>
          <p:nvSpPr>
            <p:cNvPr id="234" name=""/>
            <p:cNvSpPr/>
            <p:nvPr/>
          </p:nvSpPr>
          <p:spPr>
            <a:xfrm>
              <a:off x="5240160" y="4437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40160" y="292428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2880" y="602136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37600" y="30686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69240" y="263700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57240" y="501336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2880" y="580536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8880" y="623736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4160" y="458136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244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251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260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689600" y="3068280"/>
            <a:ext cx="71892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6880" y="3068280"/>
            <a:ext cx="792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81240" y="907920"/>
            <a:ext cx="432000" cy="115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21240" y="1915920"/>
            <a:ext cx="2879640" cy="1081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400880" y="1341000"/>
            <a:ext cx="504720" cy="5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792160" y="2637000"/>
            <a:ext cx="215640" cy="15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2504880" y="2276280"/>
            <a:ext cx="215640" cy="19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283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287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290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28520" y="1341360"/>
            <a:ext cx="266400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aihtoehdot kytkeytyvät monin tavoin, toisii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58E-91D7-4D90-9BA4-E75A84D60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302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657600" y="2923920"/>
            <a:ext cx="3311640" cy="165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4520" y="2708280"/>
            <a:ext cx="9144000" cy="3876840"/>
            <a:chOff x="344520" y="2708280"/>
            <a:chExt cx="9144000" cy="3876840"/>
          </a:xfrm>
        </p:grpSpPr>
        <p:sp>
          <p:nvSpPr>
            <p:cNvPr id="314" name=""/>
            <p:cNvSpPr/>
            <p:nvPr/>
          </p:nvSpPr>
          <p:spPr>
            <a:xfrm>
              <a:off x="5311800" y="450828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11800" y="299556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84520" y="609264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09240" y="31399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0880" y="270828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28880" y="508464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4520" y="587664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0520" y="630864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95800" y="465264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52520" y="2349360"/>
            <a:ext cx="5905440" cy="2148120"/>
            <a:chOff x="1352520" y="2349360"/>
            <a:chExt cx="5905440" cy="2148120"/>
          </a:xfrm>
        </p:grpSpPr>
        <p:sp>
          <p:nvSpPr>
            <p:cNvPr id="324" name=""/>
            <p:cNvSpPr/>
            <p:nvPr/>
          </p:nvSpPr>
          <p:spPr>
            <a:xfrm>
              <a:off x="135252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996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996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7796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4124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331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340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35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353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8520" y="1341360"/>
            <a:ext cx="324000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Tiivis yhdyskuntarakenne kytkee vaihtoehtoja esimerkiksi nä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B0C-8A5C-4407-B1E7-459940EBA9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368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57240" y="62064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08160" y="2637000"/>
            <a:ext cx="115272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68520" y="2637000"/>
            <a:ext cx="216000" cy="331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40160" y="1197000"/>
            <a:ext cx="388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12880" y="2637000"/>
            <a:ext cx="503280" cy="2304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213000"/>
            <a:ext cx="50328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44520" y="2565360"/>
            <a:ext cx="9144000" cy="3876840"/>
            <a:chOff x="344520" y="2565360"/>
            <a:chExt cx="9144000" cy="3876840"/>
          </a:xfrm>
        </p:grpSpPr>
        <p:sp>
          <p:nvSpPr>
            <p:cNvPr id="380" name=""/>
            <p:cNvSpPr/>
            <p:nvPr/>
          </p:nvSpPr>
          <p:spPr>
            <a:xfrm>
              <a:off x="5311800" y="4365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11800" y="285264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84520" y="594972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09240" y="29970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0880" y="256536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28880" y="494172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4520" y="573372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0520" y="616572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95800" y="450972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390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392880" y="2276640"/>
            <a:ext cx="115092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Lämmönerist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72160" y="1628640"/>
            <a:ext cx="179532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Moderni IV-teknii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20880" y="189000"/>
            <a:ext cx="37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Urheiluhallit, ostos-, viihde-, kulttuuri- ja koulutuslaitokset (urheilukeskukset, vapaa-ajan asun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12160" y="5661000"/>
            <a:ext cx="1726920" cy="276480"/>
          </a:xfrm>
          <a:prstGeom prst="rect">
            <a:avLst/>
          </a:prstGeom>
          <a:solidFill>
            <a:srgbClr val="f4dd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Vähempi ilmanvai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32880" y="6237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Pienemmät asu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08880" y="5113440"/>
            <a:ext cx="165564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Huonelämpötila &lt; 20 </a:t>
            </a:r>
            <a:r>
              <a:rPr b="1" lang="en-US" sz="1200" spc="-1" strike="noStrike">
                <a:solidFill>
                  <a:srgbClr val="993300"/>
                </a:solidFill>
                <a:latin typeface="Arial Narrow"/>
                <a:ea typeface="Arial"/>
              </a:rPr>
              <a:t>º</a:t>
            </a: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28880" y="1046160"/>
            <a:ext cx="151128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Suuremmat </a:t>
            </a: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asu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84520" y="2924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 Narrow"/>
              </a:rPr>
              <a:t>Pikkulapsille </a:t>
            </a:r>
            <a:r>
              <a:rPr b="1" lang="en-GB" sz="1200" spc="-1" strike="noStrike">
                <a:solidFill>
                  <a:srgbClr val="993300"/>
                </a:solidFill>
                <a:latin typeface="Arial Narrow"/>
              </a:rPr>
              <a:t>päiväko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404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008160" y="907920"/>
            <a:ext cx="432000" cy="1152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5240" y="2276640"/>
            <a:ext cx="215640" cy="1944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65600" y="2637000"/>
            <a:ext cx="0" cy="1584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0520" y="2565360"/>
            <a:ext cx="3024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421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425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428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496880" y="6308640"/>
            <a:ext cx="6408720" cy="36828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äljä yhdyskuntarakenne taas johtaa toisenlaiseen kytkentäverkk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B5C-20ED-4CEE-93C3-FE51953C39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23:29Z</dcterms:created>
  <dc:creator>sjuq</dc:creator>
  <dc:description/>
  <dc:language>en-US</dc:language>
  <cp:lastModifiedBy>Matti Jantunen</cp:lastModifiedBy>
  <cp:lastPrinted>1997-10-08T06:51:35Z</cp:lastPrinted>
  <dcterms:modified xsi:type="dcterms:W3CDTF">2008-08-28T12:26:43Z</dcterms:modified>
  <cp:revision>150</cp:revision>
  <dc:subject/>
  <dc:title>Air pollution</dc:title>
</cp:coreProperties>
</file>